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BF8DDC9-1DDB-430E-ADDA-32A7E7B87D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701EC7B-4009-4EF8-A33C-C0C51B80C0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4E488A1-7725-4690-9346-0F80AA55131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85ACE48-DE22-4AEB-805C-1172D215EA3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AD58DF-2628-40A5-B52E-15753B84C2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E0FE4E-7D0E-496B-940E-8ECBF6338C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D273F2-021E-4C36-8138-B2338E410D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569208-7105-456F-8502-13857D66A7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27B180-5823-431E-B78F-C8A0E87B98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A5BC27-8DF1-4CBA-B773-9E7AC020F4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148680-82CE-4BC4-B151-F02417D416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3A59DC8-8000-4827-A3CF-E93ECFD17E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ABA052-ADD5-4405-8391-C1AF4BFB10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9FE593-A9DB-42DA-AF73-9FEAA66844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A6FC1E-9986-4352-8EE3-2E62AF42CC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1CB036-6525-416F-8B8E-57FC2147CA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1DA41C-D768-40C9-8BC5-F1265D1654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70B5C00-76BC-46DD-9E3C-9F3675F594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FAB358D-274D-426E-BD71-615972C0A6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25C07DF-DE1E-47BA-89D9-A2F538071F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9B6D130-3967-4316-B729-64925E6DB1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E75DAEB-3682-4D19-979B-3630EC893B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A48A5C8-31C4-4E21-8DB1-0BA5AE89E5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01FC9C5-1B16-490B-8F49-0E649BE6C65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9DA85-30C4-4719-B247-DD36E7047B5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06195-A10D-436D-8052-28295A19B61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 </a:t>
            </a:r>
            <a:r>
              <a:rPr b="0" lang="en-US" sz="4200" spc="-1" strike="noStrike">
                <a:solidFill>
                  <a:srgbClr val="ffffff"/>
                </a:solidFill>
                <a:latin typeface="Arial"/>
              </a:rPr>
              <a:t>A History of Gaussian Elimination and Cholesky Factorization</a:t>
            </a:r>
            <a:endParaRPr b="0" lang="en-US" sz="4200" spc="-1" strike="noStrike">
              <a:solidFill>
                <a:srgbClr val="ffffff"/>
              </a:solidFill>
              <a:latin typeface="Arial"/>
            </a:endParaRPr>
          </a:p>
        </p:txBody>
      </p:sp>
      <p:sp>
        <p:nvSpPr>
          <p:cNvPr id="107" name="PlaceHolder 2"/>
          <p:cNvSpPr>
            <a:spLocks noGrp="1"/>
          </p:cNvSpPr>
          <p:nvPr>
            <p:ph type="subTitle"/>
          </p:nvPr>
        </p:nvSpPr>
        <p:spPr>
          <a:xfrm>
            <a:off x="2590920" y="4267080"/>
            <a:ext cx="6400800" cy="24386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 G. Gustavson &amp; J. R. Herrero </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PAM Tutorial Part I</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ept. 8, 2013</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F1057D61-F538-4B61-8D7C-E2808A01B98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 Pete Stewart’s Book</a:t>
            </a:r>
            <a:endParaRPr b="0" lang="en-US" sz="4400" spc="-1" strike="noStrike">
              <a:solidFill>
                <a:srgbClr val="000000"/>
              </a:solidFill>
              <a:latin typeface="Arial"/>
            </a:endParaRPr>
          </a:p>
        </p:txBody>
      </p:sp>
      <p:sp>
        <p:nvSpPr>
          <p:cNvPr id="1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te Stewart, in [15], provides a two parts translation of Gauss’s work of the 1820’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book of 241 pages is a very scholarly “tour de force” about Gauss’s contribution to least squares or “Gaussian Elimina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erms of matrix decomposition Gauss “invented least squares”  with Legendr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C4B21A7-A2EA-42CB-9581-A9D62943EF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Pete Stewart’s Book II</a:t>
            </a:r>
            <a:endParaRPr b="0" lang="en-US" sz="4400" spc="-1" strike="noStrike">
              <a:solidFill>
                <a:srgbClr val="000000"/>
              </a:solidFill>
              <a:latin typeface="Arial"/>
            </a:endParaRPr>
          </a:p>
        </p:txBody>
      </p:sp>
      <p:sp>
        <p:nvSpPr>
          <p:cNvPr id="12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rices were unknown then but it is clear from Gauss’ work that he understood the concepts and theory that matrix use would bring. So, one can make a strong case for giving Gauss credit for definitively laying down the theory and practice of solving Ax = b where A is an order n matrix; see his Afterword, pages 207-235 of [15].</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4354EBF-944A-46F0-B6DF-B687E7C5057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My Remarks on Stewart’s Book</a:t>
            </a:r>
            <a:endParaRPr b="0" lang="en-US" sz="4400" spc="-1" strike="noStrike">
              <a:solidFill>
                <a:srgbClr val="000000"/>
              </a:solidFill>
              <a:latin typeface="Arial"/>
            </a:endParaRPr>
          </a:p>
        </p:txBody>
      </p:sp>
      <p:sp>
        <p:nvSpPr>
          <p:cNvPr id="1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uss showed how to compose linear transformations whose result would be linear.</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laid down the theory behind accurate measurement of data via least squares and gave it a sound theoretical basis which by itself  is a very significant contribution.</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quations to be solved via the method of least squares gave rise to a symmetric positive definite matrix 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53C7D8A-4631-440F-ABA6-D1F169E4679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Remarks on Stewart’s Book II</a:t>
            </a:r>
            <a:endParaRPr b="0" lang="en-US" sz="4400" spc="-1" strike="noStrike">
              <a:solidFill>
                <a:srgbClr val="000000"/>
              </a:solidFill>
              <a:latin typeface="Arial"/>
            </a:endParaRPr>
          </a:p>
        </p:txBody>
      </p:sp>
      <p:sp>
        <p:nvSpPr>
          <p:cNvPr id="13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 when one solves Ax = b, where A is symmetric positive definite, the method is called Cholesky factorization. Gaussian Elimination refers to solving Ax = b where A is a general matrix. However, bullet 1 of slide 12 was used by Cayley to define matrix multiplication and this is the basis of finding canonical forms for matrices; in particular, LU = PA; see [7,11]</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67D7E54-6604-4BBD-9331-F53DC8486DA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quisitiones Arithmeticae, 37 </a:t>
            </a:r>
            <a:endParaRPr b="0" lang="en-US" sz="4400" spc="-1" strike="noStrike">
              <a:solidFill>
                <a:srgbClr val="000000"/>
              </a:solidFill>
              <a:latin typeface="Arial"/>
            </a:endParaRPr>
          </a:p>
        </p:txBody>
      </p:sp>
      <p:sp>
        <p:nvSpPr>
          <p:cNvPr id="1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rt. 37, Gauss discusses solving first degree congruence's in many unknowns: Ax = b mod m; A and b are integer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ge 18 footnote; he makes an assertion that  he says need demonstration but he suppresses giving one; “It is even possible that there is no solution at all.” </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states a similar algorithm exists for Ax=b</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343FBB2-C13A-43C6-8E8E-0DA65BB3498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  of J. Grcar’s Papers</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kipedia: History of LU=PA given by him.</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cient Mathematic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oolbook elimina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essional Elimina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rix Interpreta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rge Forsythe’s 1953 address to A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that tim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6862FA6-7395-4212-AB9F-7F5A8F2EFAC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arly History or Ancient Math</a:t>
            </a: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Simultaneous linear equations” as problems appear very early: Cuneiform Tablets from Babylonia and Nine Chapters of Mathematical Art from China: 2000 BC</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ice paddy problem is an example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47037BE-B22B-4634-AFFA-55748BB3A71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ce Paddy Problem</a:t>
            </a:r>
            <a:endParaRPr b="0" lang="en-US" sz="4400" spc="-1" strike="noStrike">
              <a:solidFill>
                <a:srgbClr val="000000"/>
              </a:solidFill>
              <a:latin typeface="Arial"/>
            </a:endParaRPr>
          </a:p>
        </p:txBody>
      </p:sp>
      <p:graphicFrame>
        <p:nvGraphicFramePr>
          <p:cNvPr id="139" name=""/>
          <p:cNvGraphicFramePr/>
          <p:nvPr/>
        </p:nvGraphicFramePr>
        <p:xfrm>
          <a:off x="457200" y="1981080"/>
          <a:ext cx="8229600" cy="3886200"/>
        </p:xfrm>
        <a:graphic>
          <a:graphicData uri="http://schemas.openxmlformats.org/drawingml/2006/table">
            <a:tbl>
              <a:tblPr/>
              <a:tblGrid>
                <a:gridCol w="2057400"/>
                <a:gridCol w="2057400"/>
                <a:gridCol w="2057400"/>
                <a:gridCol w="2057400"/>
              </a:tblGrid>
              <a:tr h="971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p</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71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u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1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1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6</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ield</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1F6B6916-6246-4350-A900-CC6B1F3C445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es on Ancient China Math</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ear equations were set down in cols.</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 + 1 by n array of boxes; n=3</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ting rods were used to write numbers</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st row was the right hand side</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 equations are by row; thus transpose </a:t>
            </a:r>
            <a:endParaRPr b="0" lang="en-US" sz="28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eliminate a variable each column is multiplied by the leading number in the other which gives a zero in the leading row</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EFC0AA1-3260-497E-9D14-AE377D43FDD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umn wise Elimination: row 1</a:t>
            </a:r>
            <a:endParaRPr b="0" lang="en-US" sz="4400" spc="-1" strike="noStrike">
              <a:solidFill>
                <a:srgbClr val="000000"/>
              </a:solidFill>
              <a:latin typeface="Arial"/>
            </a:endParaRPr>
          </a:p>
        </p:txBody>
      </p:sp>
      <p:graphicFrame>
        <p:nvGraphicFramePr>
          <p:cNvPr id="143" name=""/>
          <p:cNvGraphicFramePr/>
          <p:nvPr/>
        </p:nvGraphicFramePr>
        <p:xfrm>
          <a:off x="457200" y="1981080"/>
          <a:ext cx="8229600" cy="3886200"/>
        </p:xfrm>
        <a:graphic>
          <a:graphicData uri="http://schemas.openxmlformats.org/drawingml/2006/table">
            <a:tbl>
              <a:tblPr/>
              <a:tblGrid>
                <a:gridCol w="2743200"/>
                <a:gridCol w="2743200"/>
                <a:gridCol w="2743200"/>
              </a:tblGrid>
              <a:tr h="971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 = 1 x 3 –  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 = 2 x 3 – 3 x 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71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 2 x 3 –  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 3 x 3 – 2 x 2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1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 = 3 x 3 – 1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 1 x 3 = 1 x 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1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9 = 3 x 26 – 39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4 = 3 x 34 – 39 x 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80972EBC-B1EA-46A1-99BA-18DA0E64B79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s Gaussian Elimination LDL</a:t>
            </a:r>
            <a:r>
              <a:rPr b="0" lang="en-US" sz="4000" spc="-1" strike="noStrike" baseline="30000">
                <a:solidFill>
                  <a:srgbClr val="000000"/>
                </a:solidFill>
                <a:latin typeface="Arial"/>
              </a:rPr>
              <a:t>T</a:t>
            </a:r>
            <a:r>
              <a:rPr b="0" lang="en-US" sz="4000" spc="-1" strike="noStrike">
                <a:solidFill>
                  <a:srgbClr val="000000"/>
                </a:solidFill>
                <a:latin typeface="Arial"/>
              </a:rPr>
              <a:t>=A? </a:t>
            </a:r>
            <a:r>
              <a:rPr b="0" lang="en-US" sz="4000" spc="-1" strike="noStrike" baseline="30000">
                <a:solidFill>
                  <a:srgbClr val="000000"/>
                </a:solidFill>
                <a:latin typeface="Arial"/>
              </a:rPr>
              <a:t> </a:t>
            </a:r>
            <a:endParaRPr b="0" lang="en-US" sz="4000" spc="-1" strike="noStrike">
              <a:solidFill>
                <a:srgbClr val="000000"/>
              </a:solidFill>
              <a:latin typeface="Arial"/>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uss is given credit for the “invention of solving linear equations”</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 Grcar two recent papers: AMS Math Notices and Historia Mathematica. 2011 Also, see Wikipedia 2011</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te Stewart: SIAM; Translation of Gauss’ “Theory of the Comb. of Observ.  Least Subject to Errors” 1998</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 Strang: AMM: “The Fundamental Theorem of Linear Algebra” 1993</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7AFF94A-35F9-4D1C-82B8-AF28AE3F83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ts 2 zeros in row 1 </a:t>
            </a:r>
            <a:endParaRPr b="0" lang="en-US" sz="4400" spc="-1" strike="noStrike">
              <a:solidFill>
                <a:srgbClr val="000000"/>
              </a:solidFill>
              <a:latin typeface="Arial"/>
            </a:endParaRPr>
          </a:p>
        </p:txBody>
      </p:sp>
      <p:graphicFrame>
        <p:nvGraphicFramePr>
          <p:cNvPr id="145" name=""/>
          <p:cNvGraphicFramePr/>
          <p:nvPr/>
        </p:nvGraphicFramePr>
        <p:xfrm>
          <a:off x="457200" y="1981080"/>
          <a:ext cx="8229600" cy="3886200"/>
        </p:xfrm>
        <a:graphic>
          <a:graphicData uri="http://schemas.openxmlformats.org/drawingml/2006/table">
            <a:tbl>
              <a:tblPr/>
              <a:tblGrid>
                <a:gridCol w="2057400"/>
                <a:gridCol w="2057400"/>
                <a:gridCol w="2057400"/>
                <a:gridCol w="2057400"/>
              </a:tblGrid>
              <a:tr h="971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p</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71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u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1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1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9</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ield</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3E9DE020-B7E3-4AA6-97C3-3F33385BC1B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 1 &lt; --  5 x col 1 -  4 x col 2  </a:t>
            </a:r>
            <a:endParaRPr b="0" lang="en-US" sz="4400" spc="-1" strike="noStrike">
              <a:solidFill>
                <a:srgbClr val="000000"/>
              </a:solidFill>
              <a:latin typeface="Arial"/>
            </a:endParaRPr>
          </a:p>
        </p:txBody>
      </p:sp>
      <p:graphicFrame>
        <p:nvGraphicFramePr>
          <p:cNvPr id="147" name=""/>
          <p:cNvGraphicFramePr/>
          <p:nvPr/>
        </p:nvGraphicFramePr>
        <p:xfrm>
          <a:off x="457200" y="1981080"/>
          <a:ext cx="8229600" cy="3886200"/>
        </p:xfrm>
        <a:graphic>
          <a:graphicData uri="http://schemas.openxmlformats.org/drawingml/2006/table">
            <a:tbl>
              <a:tblPr/>
              <a:tblGrid>
                <a:gridCol w="2057400"/>
                <a:gridCol w="2057400"/>
                <a:gridCol w="2057400"/>
                <a:gridCol w="2057400"/>
              </a:tblGrid>
              <a:tr h="971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p</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71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 = 5 x 4 – 4 x 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u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1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6 =  5 x 8 – 4 x 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1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9 = 5 x 39 – 4 x 2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ield</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7CEE5965-DF48-44BA-9F46-B4FD72EFDD9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fter putting a 2</a:t>
            </a:r>
            <a:r>
              <a:rPr b="0" lang="en-US" sz="4000" spc="-1" strike="noStrike" baseline="30000">
                <a:solidFill>
                  <a:srgbClr val="000000"/>
                </a:solidFill>
                <a:latin typeface="Arial"/>
              </a:rPr>
              <a:t>nd </a:t>
            </a:r>
            <a:r>
              <a:rPr b="0" lang="en-US" sz="4000" spc="-1" strike="noStrike">
                <a:solidFill>
                  <a:srgbClr val="000000"/>
                </a:solidFill>
                <a:latin typeface="Arial"/>
              </a:rPr>
              <a:t>zero in row 2 of col 1 we are ready for back solve </a:t>
            </a:r>
            <a:endParaRPr b="0" lang="en-US" sz="4000" spc="-1" strike="noStrike">
              <a:solidFill>
                <a:srgbClr val="000000"/>
              </a:solidFill>
              <a:latin typeface="Arial"/>
            </a:endParaRPr>
          </a:p>
        </p:txBody>
      </p:sp>
      <p:graphicFrame>
        <p:nvGraphicFramePr>
          <p:cNvPr id="149" name=""/>
          <p:cNvGraphicFramePr/>
          <p:nvPr/>
        </p:nvGraphicFramePr>
        <p:xfrm>
          <a:off x="457200" y="1981080"/>
          <a:ext cx="8229600" cy="3886200"/>
        </p:xfrm>
        <a:graphic>
          <a:graphicData uri="http://schemas.openxmlformats.org/drawingml/2006/table">
            <a:tbl>
              <a:tblPr/>
              <a:tblGrid>
                <a:gridCol w="2057400"/>
                <a:gridCol w="2057400"/>
                <a:gridCol w="2057400"/>
                <a:gridCol w="2057400"/>
              </a:tblGrid>
              <a:tr h="971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p</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71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u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1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6</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1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9</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ield</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A3181DE8-F2E2-4458-A37B-BE155F4CD0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w Back Solv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w = 99/36 = 11/4</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um = (24 – 11/4) / 5 = 17/4</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p = (39 – 2 x 17/4 – 11/4) / 3 = 37/4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01428D4-7B69-457F-B990-80DF9F0018A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ithmetica by Diophantus.</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mous book circa 250 A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lly the start of Number Theor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ear Equations were considered trivial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special problems in linear equations were given; coefficients were general integers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 linear equations not treate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6CD8CB2-8952-4ED8-8DFB-EBC4A2250B3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hoolbook Elimination</a:t>
            </a:r>
            <a:endParaRPr b="0" lang="en-US" sz="4400" spc="-1" strike="noStrike">
              <a:solidFill>
                <a:srgbClr val="000000"/>
              </a:solidFill>
              <a:latin typeface="Arial"/>
            </a:endParaRPr>
          </a:p>
        </p:txBody>
      </p:sp>
      <p:sp>
        <p:nvSpPr>
          <p:cNvPr id="15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 rules first given by</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ton circa 1670 but unpublished to 1720’s</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ibniz via determinants; 1693 but traceable to 1673</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e published rules in the 1690’s</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grange in 1759: first paper of his collected works; when a critical point was minimum and not linear equation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627EC76-23EB-43B3-8F28-873D5D91750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uropean Renaissance circa 1600</a:t>
            </a:r>
            <a:endParaRPr b="0" lang="en-US" sz="40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7 text books on symbolic algebra: only four treat linear equation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ggests little interest in linear algebra</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general theory or algorithms given</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period devoted to the arithmetic of geometry and solving equ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ependent development from China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DD80D45-E051-40F3-8960-031207FE396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redit for Ax=b is given to Newton</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a Lucasian professor at Cambridge Newton was required to publish his lectures</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ctures written in 1669 to 1670 but not published (in translation) until (1720, 1728) with title “Universal Arithmetic”</a:t>
            </a:r>
            <a:endParaRPr b="0" lang="en-US" sz="28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 treatmen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e published precise rules in 1690</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C617695-764B-4F2F-8ADC-943DD4CF6E3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terminants solve linear systems</a:t>
            </a:r>
            <a:endParaRPr b="0" lang="en-US" sz="4000" spc="-1" strike="noStrike">
              <a:solidFill>
                <a:srgbClr val="000000"/>
              </a:solidFill>
              <a:latin typeface="Arial"/>
            </a:endParaRPr>
          </a:p>
        </p:txBody>
      </p:sp>
      <p:sp>
        <p:nvSpPr>
          <p:cNvPr id="16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ants date back to Liebniz probably in 1693 but perhaps as early as 1678 and more than 50 years before the time of Cramer of Cramer’s rule fam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versy over The Calculus between Newton and Leibniz</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AE65819-C284-4873-BEA2-78C4CDFF628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ibniz to L’Hosiptal in 1693</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0 + 11x + 12y = 0</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0 + 21x + 22y = 0</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30 + 31x + 32y = 0</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ecessary and sufficient condition to solve these three equations i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10 11 12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t | 20 21 22 | = 0</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30 31 32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4D45028-3A8D-4028-A7F3-444F69503BD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 of History</a:t>
            </a:r>
            <a:endParaRPr b="0" lang="en-US" sz="4400" spc="-1" strike="noStrike">
              <a:solidFill>
                <a:srgbClr val="000000"/>
              </a:solidFill>
              <a:latin typeface="Arial"/>
            </a:endParaRPr>
          </a:p>
        </p:txBody>
      </p:sp>
      <p:sp>
        <p:nvSpPr>
          <p:cNvPr id="11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talk will highlight the previous referenc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wart is the more accurate (opinion)</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AM:  [13,15] and “Gauss, Stat., &amp; G. E.”, [14] 1994</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car gives early history of elimination and then the history of mostly LDL</a:t>
            </a:r>
            <a:r>
              <a:rPr b="0" lang="en-US" sz="2800" spc="-1" strike="noStrike" baseline="30000">
                <a:solidFill>
                  <a:srgbClr val="000000"/>
                </a:solidFill>
                <a:latin typeface="Arial"/>
              </a:rPr>
              <a:t>T</a:t>
            </a:r>
            <a:r>
              <a:rPr b="0" lang="en-US" sz="2800" spc="-1" strike="noStrike">
                <a:solidFill>
                  <a:srgbClr val="000000"/>
                </a:solidFill>
                <a:latin typeface="Arial"/>
              </a:rPr>
              <a:t>=A up to the 1950’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there a Fundamental Theorem of Linear Algebra?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493158E-8160-4A20-855C-73C762ABF1B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arks on Leibniz use of  Determinants (tie in to Gauss)</a:t>
            </a:r>
            <a:endParaRPr b="0" lang="en-US" sz="40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the value of the determinant in the previous slide is zero the solution is x = −2 and y = 1; twice equation 2 minus equation 1  is equation 3.</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lly, elementary operations are used to evaluate determinants quickly. The method for doing this is Gaussian elimination. And in Section 5 of Disquisitiones Arithmeticae we see Gauss using determinant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A61A7D7-0CCA-4666-BED7-A935481AFDC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Info on Early History</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ham Flegg [9]: the ancients did not understand the general nature of Ax = b</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an Stewart [15]: For matrices A of order n, Ax = b either has zero, one or an infinite number of solution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 footnote by Gauss in his famous book Disquistiones Arithmeticae; see slide 14</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49AEF1F-B9E7-4BF7-BE95-612D29592BE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grange’s Info on Early History</a:t>
            </a:r>
            <a:endParaRPr b="0" lang="en-US" sz="4400" spc="-1" strike="noStrike">
              <a:solidFill>
                <a:srgbClr val="000000"/>
              </a:solidFill>
              <a:latin typeface="Arial"/>
            </a:endParaRPr>
          </a:p>
        </p:txBody>
      </p:sp>
      <p:sp>
        <p:nvSpPr>
          <p:cNvPr id="169"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grange [10] wrote Lectures on Elementary Mathematics in 1795 and gave his account of the history of this subject matter. He credits Diophantus with inventing algebra about 250 AD </a:t>
            </a:r>
            <a:endParaRPr b="0" lang="en-US" sz="2800" spc="-1" strike="noStrike">
              <a:solidFill>
                <a:srgbClr val="000000"/>
              </a:solidFill>
              <a:latin typeface="Arial"/>
            </a:endParaRPr>
          </a:p>
          <a:p>
            <a:pPr marL="329040" indent="-3290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Rome fell, Arabs conquered much of the intellectual world. They </a:t>
            </a:r>
            <a:r>
              <a:rPr b="0" lang="en-US" sz="2800" spc="-1" strike="noStrike">
                <a:solidFill>
                  <a:srgbClr val="00cc00"/>
                </a:solidFill>
                <a:latin typeface="Arial"/>
              </a:rPr>
              <a:t>adopted</a:t>
            </a:r>
            <a:r>
              <a:rPr b="0" lang="en-US" sz="2800" spc="-1" strike="noStrike">
                <a:solidFill>
                  <a:srgbClr val="000000"/>
                </a:solidFill>
                <a:latin typeface="Arial"/>
              </a:rPr>
              <a:t> ideas from  Greece, Egypt, India and China. Eventually they “discovered” algebra and base 10 arithmetic</a:t>
            </a:r>
            <a:endParaRPr b="0" lang="en-US" sz="2800" spc="-1" strike="noStrike">
              <a:solidFill>
                <a:srgbClr val="000000"/>
              </a:solidFill>
              <a:latin typeface="Arial"/>
            </a:endParaRPr>
          </a:p>
          <a:p>
            <a:pPr marL="329040" indent="-3290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llet 2 convinces me that Lagrange in [10] was probably correct; see also [18] by Miller where this point is also made</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ED83AB3-0BF3-4A6F-BF7B-6B2E5A869AD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 on Early History</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grange states that Western Europe received algebra from the Arabs who probably learned some of its material from the Hindus of India. Both the Arabs and Hindus learned for Diophantu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previous slide als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F04E6A1-EB42-4890-AC50-F7E409C1EFE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 on Early Histor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ranslator of [10] was Thomas J. McCormick, 1898, and he cited other corroborating evidence that Lagrange was correct. Lagrange mentions solving linear equations by Diophantus and the Arabs and he indicates this work was not difficult. He gives no lessons on this material.</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BF43D8F-D0C5-43E0-9A2C-353CDAE47EC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 of Lagrange’s Book </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my reading of Lagrange it is not clear that this group of people (before Newton and Leibniz) completely knew the general nature of solving Ax = b.</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0457505-5185-41C2-A0E5-43A49AD6E4F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hematical Notat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uss devised excellent notation prior to the use of matrice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ians said that Euler first and Leibniz second had the greatest effect on the use of modern day mathematical not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6BB7EF0-57D3-4C7D-9792-EEA8C265059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umber representation</a:t>
            </a:r>
            <a:endParaRPr b="0" lang="en-US" sz="4400" spc="-1" strike="noStrike">
              <a:solidFill>
                <a:srgbClr val="000000"/>
              </a:solidFill>
              <a:latin typeface="Arial"/>
            </a:endParaRPr>
          </a:p>
        </p:txBody>
      </p:sp>
      <p:sp>
        <p:nvSpPr>
          <p:cNvPr id="17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equally important as </a:t>
            </a:r>
            <a:r>
              <a:rPr b="0" lang="en-US" sz="2400" spc="-1" strike="noStrike">
                <a:solidFill>
                  <a:srgbClr val="00cc00"/>
                </a:solidFill>
                <a:latin typeface="Arial"/>
              </a:rPr>
              <a:t>notation</a:t>
            </a:r>
            <a:r>
              <a:rPr b="0" lang="en-US" sz="2400" spc="-1" strike="noStrike">
                <a:solidFill>
                  <a:srgbClr val="000000"/>
                </a:solidFill>
                <a:latin typeface="Arial"/>
              </a:rPr>
              <a:t>. The book Zero by Charles Seife as well as other references he cites is quite good.</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bonacci, in 1215, wrote Ex Libris; Hindu Numerals 0 to 9 were adopted in Europe; Roman Numerals became obsolet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urch impeded progress nearly </a:t>
            </a:r>
            <a:r>
              <a:rPr b="0" lang="en-US" sz="2000" spc="-1" strike="noStrike">
                <a:solidFill>
                  <a:srgbClr val="00cc00"/>
                </a:solidFill>
                <a:latin typeface="Arial"/>
              </a:rPr>
              <a:t>300</a:t>
            </a:r>
            <a:r>
              <a:rPr b="0" lang="en-US" sz="2000" spc="-1" strike="noStrike">
                <a:solidFill>
                  <a:srgbClr val="000000"/>
                </a:solidFill>
                <a:latin typeface="Arial"/>
              </a:rPr>
              <a:t> year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Positional notation</a:t>
            </a:r>
            <a:r>
              <a:rPr b="0" lang="en-US" sz="2400" spc="-1" strike="noStrike">
                <a:solidFill>
                  <a:srgbClr val="000000"/>
                </a:solidFill>
                <a:latin typeface="Arial"/>
              </a:rPr>
              <a:t> and </a:t>
            </a:r>
            <a:r>
              <a:rPr b="0" lang="en-US" sz="2400" spc="-1" strike="noStrike">
                <a:solidFill>
                  <a:srgbClr val="0000ff"/>
                </a:solidFill>
                <a:latin typeface="Arial"/>
              </a:rPr>
              <a:t>zero</a:t>
            </a:r>
            <a:r>
              <a:rPr b="0" lang="en-US" sz="2400" spc="-1" strike="noStrike">
                <a:solidFill>
                  <a:srgbClr val="000000"/>
                </a:solidFill>
                <a:latin typeface="Arial"/>
              </a:rPr>
              <a:t> were the key new idea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on Stevin 36 page booklet “The Tenth” gave  the world the </a:t>
            </a:r>
            <a:r>
              <a:rPr b="0" lang="en-US" sz="2400" spc="-1" strike="noStrike">
                <a:solidFill>
                  <a:srgbClr val="0000ff"/>
                </a:solidFill>
                <a:latin typeface="Arial"/>
              </a:rPr>
              <a:t>decimal system</a:t>
            </a:r>
            <a:r>
              <a:rPr b="0" lang="en-US" sz="2400" spc="-1" strike="noStrike">
                <a:solidFill>
                  <a:srgbClr val="000000"/>
                </a:solidFill>
                <a:latin typeface="Arial"/>
              </a:rPr>
              <a:t> in </a:t>
            </a:r>
            <a:r>
              <a:rPr b="0" lang="en-US" sz="2400" spc="-1" strike="noStrike">
                <a:solidFill>
                  <a:srgbClr val="00cc00"/>
                </a:solidFill>
                <a:latin typeface="Arial"/>
              </a:rPr>
              <a:t>1585</a:t>
            </a:r>
            <a:r>
              <a:rPr b="0" lang="en-US" sz="2400" spc="-1" strike="noStrike">
                <a:solidFill>
                  <a:srgbClr val="000000"/>
                </a:solidFill>
                <a:latin typeface="Arial"/>
              </a:rPr>
              <a:t>; </a:t>
            </a:r>
            <a:r>
              <a:rPr b="0" lang="en-US" sz="2400" spc="-1" strike="noStrike">
                <a:solidFill>
                  <a:srgbClr val="ff0000"/>
                </a:solidFill>
                <a:latin typeface="Arial"/>
              </a:rPr>
              <a:t>370</a:t>
            </a:r>
            <a:r>
              <a:rPr b="0" lang="en-US" sz="2400" spc="-1" strike="noStrike">
                <a:solidFill>
                  <a:srgbClr val="000000"/>
                </a:solidFill>
                <a:latin typeface="Arial"/>
              </a:rPr>
              <a:t> years later.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6ACBCD2-CE36-4995-B65E-6C12B3B5AAC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fessional Elimination</a:t>
            </a:r>
            <a:endParaRPr b="0" lang="en-US" sz="4400" spc="-1" strike="noStrike">
              <a:solidFill>
                <a:srgbClr val="000000"/>
              </a:solidFill>
              <a:latin typeface="Arial"/>
            </a:endParaRPr>
          </a:p>
        </p:txBody>
      </p:sp>
      <p:sp>
        <p:nvSpPr>
          <p:cNvPr id="1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ety needed to do geodetic survey. Gauss and Legendre invented a solution method which Legendre named the method of least squar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uss expressed a matrix like algorithm before matrix notation (bracket notation) was devise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ork on professional elimination was supported initially because of the economic and military value of cartography.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A78BFA7-066D-46A5-8D57-A3746FCBCF9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fessional Elimination II</a:t>
            </a:r>
            <a:endParaRPr b="0" lang="en-US" sz="4400" spc="-1" strike="noStrike">
              <a:solidFill>
                <a:srgbClr val="000000"/>
              </a:solidFill>
              <a:latin typeface="Arial"/>
            </a:endParaRPr>
          </a:p>
        </p:txBody>
      </p:sp>
      <p:sp>
        <p:nvSpPr>
          <p:cNvPr id="1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uss [1826] devised another least-squares method to solve underdetermined equations. He used the method to adjust the triangulations of land surveys to make the triangles consistent.</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iedrich Bessel [1838] popularized Gauss’s approach and cartographic bureaus adopted his the bracket notation. Gauss’s calculations became part of the mathematics curriculum for geodesist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6F5CC41-9EF1-4586-8A87-1E2386489E7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ussian Elimination I</a:t>
            </a:r>
            <a:endParaRPr b="0" lang="en-US" sz="4400" spc="-1" strike="noStrike">
              <a:solidFill>
                <a:srgbClr val="000000"/>
              </a:solidFill>
              <a:latin typeface="Arial"/>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think “Gaussian Elimination” means solving LU = PA or the factoring of a general m × n matrix A with partial pivoting. There is a book, 458 pages, by Stewart [15] titled Matrix Algorithms Vol. 1: Basic Decompositions which is very relevant. It has a bibliography of 355 references. Also, see Stewart [14].</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175D64A-8915-4A8C-99FA-0FCC8710095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fessional Elimination III</a:t>
            </a:r>
            <a:endParaRPr b="0" lang="en-US" sz="4400" spc="-1" strike="noStrike">
              <a:solidFill>
                <a:srgbClr val="000000"/>
              </a:solidFill>
              <a:latin typeface="Arial"/>
            </a:endParaRPr>
          </a:p>
        </p:txBody>
      </p:sp>
      <p:sp>
        <p:nvSpPr>
          <p:cNvPr id="18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iam Chauvenet 1820-70, at US Naval Academy and others taught Gauss’s computing method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rst innovations after Gauss came from Myrick Doolittle 1830-1911 in 1881.</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reciprocal multiples and Product Tables of Crelle [1864]</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CBE9007-011F-4BD8-B920-32577AF7934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IV: A. L. Cholesky 1875-1917</a:t>
            </a:r>
            <a:endParaRPr b="0" lang="en-US" sz="4400" spc="-1" strike="noStrike">
              <a:solidFill>
                <a:srgbClr val="000000"/>
              </a:solidFill>
              <a:latin typeface="Arial"/>
            </a:endParaRPr>
          </a:p>
        </p:txBody>
      </p:sp>
      <p:sp>
        <p:nvSpPr>
          <p:cNvPr id="18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rdered the arithmetic steps to exploit a feature of multiplying calculators: Dactyl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used them (1890 on); dot products done internally. Less intermediate resul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lesky’s tables held only O(n</a:t>
            </a:r>
            <a:r>
              <a:rPr b="0" lang="en-US" sz="3200" spc="-1" strike="noStrike" baseline="30000">
                <a:solidFill>
                  <a:srgbClr val="000000"/>
                </a:solidFill>
                <a:latin typeface="Arial"/>
              </a:rPr>
              <a:t>2</a:t>
            </a:r>
            <a:r>
              <a:rPr b="0" lang="en-US" sz="3200" spc="-1" strike="noStrike">
                <a:solidFill>
                  <a:srgbClr val="000000"/>
                </a:solidFill>
                <a:latin typeface="Arial"/>
              </a:rPr>
              <a:t>) numbers compared to Doolittle’s O(n</a:t>
            </a:r>
            <a:r>
              <a:rPr b="0" lang="en-US" sz="3200" spc="-1" strike="noStrike" baseline="30000">
                <a:solidFill>
                  <a:srgbClr val="000000"/>
                </a:solidFill>
                <a:latin typeface="Arial"/>
              </a:rPr>
              <a:t>3</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ed square roots: n(n+1)/2 storag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D47A643-CA09-4D72-9D1C-38764F401A7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V: Doolittle and Choleksy after World War I</a:t>
            </a:r>
            <a:endParaRPr b="0" lang="en-US" sz="4000" spc="-1" strike="noStrike">
              <a:solidFill>
                <a:srgbClr val="000000"/>
              </a:solidFill>
              <a:latin typeface="Arial"/>
            </a:endParaRPr>
          </a:p>
        </p:txBody>
      </p:sp>
      <p:sp>
        <p:nvSpPr>
          <p:cNvPr id="18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Use of Least Squares moved to Statistic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US Doolittle’s methods were prominent.</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lesky was </a:t>
            </a:r>
            <a:r>
              <a:rPr b="0" lang="en-US" sz="2800" spc="-1" strike="noStrike">
                <a:solidFill>
                  <a:srgbClr val="ff0000"/>
                </a:solidFill>
                <a:latin typeface="Arial"/>
              </a:rPr>
              <a:t>unknown</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oit published Cholesky Alg. in 1924. Little notice as it was used in the geodetic field.</a:t>
            </a:r>
            <a:endParaRPr b="0" lang="en-US" sz="28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became widely used in </a:t>
            </a:r>
            <a:r>
              <a:rPr b="0" lang="en-US" sz="3200" spc="-1" strike="noStrike">
                <a:solidFill>
                  <a:srgbClr val="ff0000"/>
                </a:solidFill>
                <a:latin typeface="Arial"/>
              </a:rPr>
              <a:t>1945</a:t>
            </a:r>
            <a:r>
              <a:rPr b="0" lang="en-US" sz="3200" spc="-1" strike="noStrike">
                <a:solidFill>
                  <a:srgbClr val="000000"/>
                </a:solidFill>
                <a:latin typeface="Arial"/>
              </a:rPr>
              <a:t> when it was rediscovered by the American statistician Dwyer; </a:t>
            </a:r>
            <a:r>
              <a:rPr b="0" lang="en-US" sz="3200" spc="-1" strike="noStrike">
                <a:solidFill>
                  <a:srgbClr val="ff0000"/>
                </a:solidFill>
                <a:latin typeface="Arial"/>
              </a:rPr>
              <a:t>35</a:t>
            </a:r>
            <a:r>
              <a:rPr b="0" lang="en-US" sz="3200" spc="-1" strike="noStrike">
                <a:solidFill>
                  <a:srgbClr val="000000"/>
                </a:solidFill>
                <a:latin typeface="Arial"/>
              </a:rPr>
              <a:t> years later.</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926B295-347B-46C2-B61D-6D7751F0FCA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rix Interpretation I</a:t>
            </a:r>
            <a:endParaRPr b="0" lang="en-US" sz="4400" spc="-1" strike="noStrike">
              <a:solidFill>
                <a:srgbClr val="000000"/>
              </a:solidFill>
              <a:latin typeface="Arial"/>
            </a:endParaRPr>
          </a:p>
        </p:txBody>
      </p:sp>
      <p:sp>
        <p:nvSpPr>
          <p:cNvPr id="19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vious type Algorithms were replaced by matrix algebra decomposition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ed at the Jagiellonian University astronomical observatory by Computing motivated astronomer Tadeusz Banachiewicz  in the mid 1930’s.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independently invented matrices in a form called Cracovian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5427176-9D6E-4AA4-A70C-25CC8E574B7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rix Interpretation II</a:t>
            </a:r>
            <a:endParaRPr b="0" lang="en-US" sz="4400" spc="-1" strike="noStrike">
              <a:solidFill>
                <a:srgbClr val="000000"/>
              </a:solidFill>
              <a:latin typeface="Arial"/>
            </a:endParaRPr>
          </a:p>
        </p:txBody>
      </p:sp>
      <p:sp>
        <p:nvSpPr>
          <p:cNvPr id="19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944, Henry Jensen, Danish Geodist  said: the </a:t>
            </a:r>
            <a:r>
              <a:rPr b="0" lang="en-US" sz="3200" spc="-1" strike="noStrike">
                <a:solidFill>
                  <a:srgbClr val="ff0000"/>
                </a:solidFill>
                <a:latin typeface="Arial"/>
              </a:rPr>
              <a:t>three</a:t>
            </a:r>
            <a:r>
              <a:rPr b="0" lang="en-US" sz="3200" spc="-1" strike="noStrike">
                <a:solidFill>
                  <a:srgbClr val="000000"/>
                </a:solidFill>
                <a:latin typeface="Arial"/>
              </a:rPr>
              <a:t> algorithms for solving the normal equation amounted to expressing a square matrix as a triangular product. </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aussian algorithm” (the calculation with Gauss’s brackets), </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racovian method, </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holesky’s method.</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F541A10-F439-498D-BD9C-51B80664055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rix Interpretation III</a:t>
            </a:r>
            <a:endParaRPr b="0" lang="en-US" sz="4400" spc="-1" strike="noStrike">
              <a:solidFill>
                <a:srgbClr val="000000"/>
              </a:solidFill>
              <a:latin typeface="Arial"/>
            </a:endParaRPr>
          </a:p>
        </p:txBody>
      </p:sp>
      <p:sp>
        <p:nvSpPr>
          <p:cNvPr id="19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944, Paul Dwyer showed that Doolittle’s method was an “efficient way of building up” some “so called triangular” matrices. He also found the same thing for Cracovians.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incident papers of Jensen and Dwyer are the </a:t>
            </a:r>
            <a:r>
              <a:rPr b="0" lang="en-US" sz="3200" spc="-1" strike="noStrike">
                <a:solidFill>
                  <a:srgbClr val="ff0000"/>
                </a:solidFill>
                <a:latin typeface="Arial"/>
              </a:rPr>
              <a:t>earliest</a:t>
            </a:r>
            <a:r>
              <a:rPr b="0" lang="en-US" sz="3200" spc="-1" strike="noStrike">
                <a:solidFill>
                  <a:srgbClr val="000000"/>
                </a:solidFill>
                <a:latin typeface="Arial"/>
              </a:rPr>
              <a:t> to depict Gaussian elimination in roughly the modern form.</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7E72346-93B8-4023-95B8-C95DBD24903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rix Interpretation IV</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947, von Neuman and Goldstine said: “We may therefore interpret the elimination method as . . . the combination of two tricks: First, it decomposes A into a product of two [triangular] matrices . . . [and second] it forms their inverses by a simple, explicit, inductive pro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also did round-off error analysis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66FDB30-24D6-4EDE-B37F-3378F03C7CF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rix Interpretation V</a:t>
            </a:r>
            <a:endParaRPr b="0" lang="en-US" sz="44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an Turing depicted Gaussian elimination in the manner of von Neumann,  Goldstine by treating schoolbook elimination, &amp; also in the manner of Jensen by representing the arithmetic through operations by “elementary matrices” in 1948.</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E69A48A-1F4A-46F0-80F5-49121907140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rix Interpretation VI</a:t>
            </a:r>
            <a:endParaRPr b="0" lang="en-US" sz="4400" spc="-1" strike="noStrike">
              <a:solidFill>
                <a:srgbClr val="000000"/>
              </a:solidFill>
              <a:latin typeface="Arial"/>
            </a:endParaRPr>
          </a:p>
        </p:txBody>
      </p:sp>
      <p:sp>
        <p:nvSpPr>
          <p:cNvPr id="20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953, in an address before the AMS, Forsythe misattributed “high school” elimination to Gauss and appears to have been the first to call it “Gaussian  elimination.” The name was widely used within a decade.</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Solving Linear Algebraic Equations Can Be Interesting” by Forsythe [6].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34399D7-0C80-4B6B-B9D6-59FF8988A47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rix Interpretation VII</a:t>
            </a:r>
            <a:endParaRPr b="0" lang="en-US" sz="4400" spc="-1" strike="noStrike">
              <a:solidFill>
                <a:srgbClr val="000000"/>
              </a:solidFill>
              <a:latin typeface="Arial"/>
            </a:endParaRPr>
          </a:p>
        </p:txBody>
      </p:sp>
      <p:sp>
        <p:nvSpPr>
          <p:cNvPr id="20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Chapter 2 of [3] Faddeeva Gauss’ method is given: Russian edition of 1950. This predates Forsythe’s 1953 remark.</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sythe was instrumental in getting [3] translated.</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wart’s references [14,15] and their references suggest otherwise also.</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fterword of [15] describes well that Gauss’ works laid a strong foundation that many earlier authors cited him for Gaussian Elimination.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EAB19A3-F274-47F5-A02F-2FC1BA95DAB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ussian Elimination II</a:t>
            </a:r>
            <a:endParaRPr b="0" lang="en-US" sz="4400" spc="-1" strike="noStrike">
              <a:solidFill>
                <a:srgbClr val="000000"/>
              </a:solidFill>
              <a:latin typeface="Arial"/>
            </a:endParaRPr>
          </a:p>
        </p:txBody>
      </p:sp>
      <p:sp>
        <p:nvSpPr>
          <p:cNvPr id="11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Chapter 3 of [15], called Gaussian Elimination, variations of Gaussian elimination including LU = PA are described. There are a multitude of such books and papers on Gaussian elimination; e.g. for variations see [2; 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FA6C3EC-964B-4F58-A89F-4CE285025F5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References</a:t>
            </a:r>
            <a:endParaRPr b="0" lang="en-US" sz="4400" spc="-1" strike="noStrike">
              <a:solidFill>
                <a:srgbClr val="000000"/>
              </a:solidFill>
              <a:latin typeface="Arial"/>
            </a:endParaRPr>
          </a:p>
        </p:txBody>
      </p:sp>
      <p:sp>
        <p:nvSpPr>
          <p:cNvPr id="2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Carl. B. Boyer, revised by U. C. Merzbach. Determinants, Notation, and Imaginary Numbers. A History of Mathematics, book, 1968, 1991, John Wiley and Sons, pp. 405-407.</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J. J. Dongarra, F. G. Gustavson, A. Karp. Implementing Linear Algebra Algorithms for Dense Matrices on a Vector Pipeline Machine. SIAM Review, Vol. 26, No. 1, Jan. 1984, pp. 91,112.</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V. N. Faddeeva Chapter II: Systems of Linear Equations. Computational Methods of Linear Algebra, book, 1950, 1959, Dover Pubs, Inc, NY, pp. 63-146.</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92CB6E3-59DB-490E-81B4-D7F9BE7F7BA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References II</a:t>
            </a:r>
            <a:endParaRPr b="0" lang="en-US" sz="44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C. F. Gauss Section V: Forms and Indetermininate Equations of the 2</a:t>
            </a:r>
            <a:r>
              <a:rPr b="0" lang="en-US" sz="2800" spc="-1" strike="noStrike" baseline="30000">
                <a:solidFill>
                  <a:srgbClr val="000000"/>
                </a:solidFill>
                <a:latin typeface="Arial"/>
              </a:rPr>
              <a:t>nd</a:t>
            </a:r>
            <a:r>
              <a:rPr b="0" lang="en-US" sz="2800" spc="-1" strike="noStrike">
                <a:solidFill>
                  <a:srgbClr val="000000"/>
                </a:solidFill>
                <a:latin typeface="Arial"/>
              </a:rPr>
              <a:t> Degree Disquisitiones Arithmeticae, book, 1801, 1966, Yale Univ. Press, New Haven, Conn., 472 pag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Joseph F. Grcar ”How ordinary elimination became Gaussian elimination”. Historia Mathematica, in press, 56 pages, 202 refs. 2012 this paper was published.</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E1A5DC8-EB20-4AD7-BE19-538C1E163B6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References III</a:t>
            </a:r>
            <a:endParaRPr b="0" lang="en-US" sz="4400" spc="-1" strike="noStrike">
              <a:solidFill>
                <a:srgbClr val="000000"/>
              </a:solidFill>
              <a:latin typeface="Arial"/>
            </a:endParaRPr>
          </a:p>
        </p:txBody>
      </p:sp>
      <p:sp>
        <p:nvSpPr>
          <p:cNvPr id="2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F. Gustavson. Recursion Leads to Automatic Variable Blocking for Dense Linear-Algebra Algorithms. IBM J.  R. &amp; D., Vol. 41, No. 6, Nov. 1997, pp.737-755.</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 F. Gustavson. High Performance Linear Algebra Algorithms using New Generalized Data Structures for Matrices. IBM J. R. &amp; D., Vol. 47, No. 1, Jan. 2003, pp. 31,55.</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94342AC-F78B-4386-97EC-58312ECA63B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References IV</a:t>
            </a:r>
            <a:endParaRPr b="0" lang="en-US" sz="4400" spc="-1" strike="noStrike">
              <a:solidFill>
                <a:srgbClr val="000000"/>
              </a:solidFill>
              <a:latin typeface="Arial"/>
            </a:endParaRPr>
          </a:p>
        </p:txBody>
      </p:sp>
      <p:sp>
        <p:nvSpPr>
          <p:cNvPr id="21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 A. S. Householder. Chapter 5: Direct Methods of Inversion. The Theory of Matrices in Numerical Analysis, book, 1964, 1975, Dover Pub, Mineola, NY, pp. 122-146.</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 Graham Flegg. Chapter 6: Unknown Numbers. NUMBERS: Their History and Meaning, book, 1983, 2002, Dover Publications, Mineola, NY, pp. 203-212.</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Joseph Louis Lagrange. Lecture 3: On Algebra, Particularly the Resolution of Equations of the Third and Fourth Degree. Lectures on Elementary Mathematics, book, 1795, 1898, 2008 Dover, Mineola, NY, pp. 54-9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092B456-D658-4486-9F42-F38748C2A0E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References V</a:t>
            </a:r>
            <a:endParaRPr b="0" lang="en-US" sz="4400" spc="-1" strike="noStrike">
              <a:solidFill>
                <a:srgbClr val="000000"/>
              </a:solidFill>
              <a:latin typeface="Arial"/>
            </a:endParaRPr>
          </a:p>
        </p:txBody>
      </p:sp>
      <p:sp>
        <p:nvSpPr>
          <p:cNvPr id="2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 C. D. Meyer. Matrix Analyis and Applied Linear Algebra, Book. SIAM Philadelphia, 2001.</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 David E. Smith Leibniz On Determinants. A Source Book in Mathematics, book, 1929, 1959, Dover Publications, Mineola, NY, pp. 267-270.</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 G.W. Stewart. Theory of the Combination of Observations Least Subject to Errors “Classics in Appl. Math.” book, 1998, SIAM, Phila., 1998.</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 …, Gauss, Statistics, and Gaussian Elimin., 1994, U. of Maryland TR- 94-78 &amp; TR-3307</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0CDF0CC-BD57-48B2-BFC4-95713EB0BC4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References VI</a:t>
            </a:r>
            <a:endParaRPr b="0" lang="en-US" sz="4400" spc="-1" strike="noStrike">
              <a:solidFill>
                <a:srgbClr val="000000"/>
              </a:solidFill>
              <a:latin typeface="Arial"/>
            </a:endParaRPr>
          </a:p>
        </p:txBody>
      </p:sp>
      <p:sp>
        <p:nvSpPr>
          <p:cNvPr id="21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 G. W. Stewart. Matrix Algorithms Volume 1: Basic Decompositions, Book. SIAM, Phila. 1998.</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 Ian Stewart. Chapter 15: Linear Algebra. Concepts of Modern Mathematics, book, 1995, Dover Publications, NY, pp. 215-228.</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7] Gilbert Strang The Fundamental Theorem of Linear Algebra The American Mathematical Monthly, Vol. 100, No. 9. 11/1993, pp. 848-85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 Denning Miller Miller’s Popular Mathematics book, Coward-McCann, Inc, NY , 616 pag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F0D52EB-94CC-4912-87D9-62429A416023}" type="slidenum">
              <a:t>5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ear Algebra I</a:t>
            </a:r>
            <a:endParaRPr b="0" lang="en-US" sz="4400" spc="-1" strike="noStrike">
              <a:solidFill>
                <a:srgbClr val="000000"/>
              </a:solidFill>
              <a:latin typeface="Arial"/>
            </a:endParaRPr>
          </a:p>
        </p:txBody>
      </p:sp>
      <p:sp>
        <p:nvSpPr>
          <p:cNvPr id="1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roader area is Linear Algebra.</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ear Algebra is a subject of immense practical and theoretical value to algebra specifically and to mathematics in genera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Concepts of Modern Mathematics”, Ian Stewart explains what Linear Algebra is by just looking at Ax = b for A of order n = 2.</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287C6C6-8078-4CFF-A43B-8046854DFBD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ear Algebra II</a:t>
            </a:r>
            <a:endParaRPr b="0" lang="en-US" sz="4400" spc="-1" strike="noStrike">
              <a:solidFill>
                <a:srgbClr val="000000"/>
              </a:solidFill>
              <a:latin typeface="Arial"/>
            </a:endParaRPr>
          </a:p>
        </p:txBody>
      </p:sp>
      <p:sp>
        <p:nvSpPr>
          <p:cNvPr id="119"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inciple of linear supposition or the use of elementary operations that preserves the solution properties of systems of linear equations is a key idea or concept of Linear Algebra. This basic tenant or idea helps one to understand the early developments of ancient civilizations regarding solving linear equations via eliminat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687690F-30F1-4A2C-A2A5-8F290E8E74D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ear Algebra III</a:t>
            </a:r>
            <a:endParaRPr b="0" lang="en-US" sz="4400" spc="-1" strike="noStrike">
              <a:solidFill>
                <a:srgbClr val="000000"/>
              </a:solidFill>
              <a:latin typeface="Arial"/>
            </a:endParaRPr>
          </a:p>
        </p:txBody>
      </p:sp>
      <p:sp>
        <p:nvSpPr>
          <p:cNvPr id="121"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there a  Fundamental Result or Theorem of Linear Algebra?</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inciple of Linear Superposition” is my candidat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 Strang: AMM: “The Fundamental Theorem of Linear Algebra” 1993</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lgebra it is Gauss’ 1801 Thesis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53FCCF4-881D-4494-8F5D-B81DC35AF9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Fundamental Theorems</a:t>
            </a:r>
            <a:endParaRPr b="0" lang="en-US" sz="4400" spc="-1" strike="noStrike">
              <a:solidFill>
                <a:srgbClr val="000000"/>
              </a:solidFill>
              <a:latin typeface="Arial"/>
            </a:endParaRPr>
          </a:p>
        </p:txBody>
      </p:sp>
      <p:sp>
        <p:nvSpPr>
          <p:cNvPr id="123"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undamental Theorem of Arithmetic</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undamental Theorem of Calculu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undamental Result of Computer Scienc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849E69B-7102-48FB-8506-2011CC6A136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1T18:32:54Z</dcterms:created>
  <dc:creator>IBM_USER</dc:creator>
  <dc:description/>
  <dc:language>en-US</dc:language>
  <cp:lastModifiedBy>FG2</cp:lastModifiedBy>
  <dcterms:modified xsi:type="dcterms:W3CDTF">2013-09-08T12:05:22Z</dcterms:modified>
  <cp:revision>72</cp:revision>
  <dc:subject/>
  <dc:title>DMC Packed Cholesky </dc:title>
</cp:coreProperties>
</file>